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09B4-A0CC-48C1-859D-246653F7DC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BF85-0038-4DA0-9745-1D52511E53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EB9-AB3D-467D-841C-8A3A410B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695-E784-4F3C-8598-9CD94794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8DD-D6F7-4626-88C1-E03A85ED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514-001A-49C5-BAC1-76D52564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1171-C3A2-4AB8-8428-A1F21AFA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EA7C-24AA-46C0-82A5-7D4C4451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B6DF-BDAC-459C-ACDD-1DA17919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ED84-952A-4D6C-8656-2920ED15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D566-C172-443F-8D73-3E266018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EA89-67E7-42FE-B794-5A499360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51BA-9C71-4F56-B10D-E23BA65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7AE-72C0-4024-AB3F-DCFB23F0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72E3-4A4A-4D83-9B69-DA1ED0F5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12D1-F401-483D-AFA3-13468804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B6D2-F155-4C89-A4DB-DE25FF8D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9944-EA7C-426C-90F5-7C0C4F4D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DB4A-52F9-4901-B88F-2F9EB172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F319-20A2-4BBE-A2FD-62B1E004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2153-24A1-4B9E-9455-2EA70D3F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E93B-A998-46B1-8068-82AC5962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8615-8A8D-4FF4-80E0-C90B68DC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1039-36F0-4048-9246-58E62D82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41A-BAFB-4550-999D-F00CCFFA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A598-0ECD-4A51-9F4B-C15B2B79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CDE5D-1ED6-4AF5-8E93-AF3C1F9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9C69B-F887-4BB5-B72E-021F025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936D-231C-4907-9E2F-796B286F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97E9-A81F-4BE5-9889-81781235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58B9-EE93-4C26-B5D0-1C1B4AEC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132A-67EC-49AE-88F4-D5EB6BB9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7152D-0A46-4957-82FB-35B53355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31898-272E-4E1A-9916-73809045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C7974-17E6-4286-A69B-469F14EC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121-84E0-4FE4-9FCC-52F42A61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5C44-9013-420C-8076-88B882FC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0F44-B1CC-4ADC-A41D-E4B5D421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F201-3505-45AB-89CD-1491FDB3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F59EA-DDE5-477F-B666-F1E3BBE2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DBBBF-200A-4825-857C-5C18B4DB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0DEA-A61B-445D-ABF0-05D04FDC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1E60A-1D80-4A43-A143-5E040437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BE56-E15B-4563-A7BB-9B670CDB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B0C55-7C89-478D-8E9D-B9701D67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ED825-C8FE-426B-9146-2229B4CD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560-2B9D-4126-92F8-E7E08761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0AC12-4723-452F-8E6B-9AC12F86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F27EE-B9D4-49DC-B12F-8C02883C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4BE4-7701-4020-86C4-A9978FBB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CB5F-6D02-45DC-A10D-A1AD32E4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2B62F-E896-45A0-993E-77163B11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0534C-6423-4C18-84DC-F1648693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9C46B-1E20-49C6-8FC5-A5987AA6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AA962-4ED8-4DF4-A05C-C47CD7DC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ABFA-62BE-49BC-8A6A-87A3AEB1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FAC7-0D7F-4509-8750-F82A1A67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3D2-C253-4B67-BEBD-4FE82E02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E3665-9730-431C-B8E7-03CB3293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022-3734-408D-B2F5-7C2FA34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689-5E50-455C-B88E-2F062696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ADD-3134-403A-8B80-6596721B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AAFF-5C74-4FA8-AFBE-8E8B32C5C18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AAC9-CF5B-43E9-9579-E2FA263AC6E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25BF-174B-416F-9455-0C9E5EDDC1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2CB7-7674-4672-804B-A4AA38B7600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139D-F927-4B4F-8104-1E8B71CE6D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79995\Desktop\изонить\2547667f45b75ffbd017fdba52a124e9.jpg"/>
          <p:cNvPicPr/>
          <p:nvPr/>
        </p:nvPicPr>
        <p:blipFill>
          <a:blip r:embed="rId2"/>
          <a:stretch/>
        </p:blipFill>
        <p:spPr>
          <a:xfrm>
            <a:off x="250920" y="2852640"/>
            <a:ext cx="55148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ы работ «Аквариу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79995\Desktop\изонить\61c582c91fb1a80d45f6a6bcc41ece5b.jpg.jpg"/>
          <p:cNvPicPr/>
          <p:nvPr/>
        </p:nvPicPr>
        <p:blipFill>
          <a:blip r:embed="rId1"/>
          <a:stretch/>
        </p:blipFill>
        <p:spPr>
          <a:xfrm>
            <a:off x="250920" y="1197000"/>
            <a:ext cx="8893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Аквариум»3-4ч\948b751e6e52f3c074666649826f7db3.png"/>
          <p:cNvPicPr/>
          <p:nvPr/>
        </p:nvPicPr>
        <p:blipFill>
          <a:blip r:embed="rId1"/>
          <a:stretch/>
        </p:blipFill>
        <p:spPr>
          <a:xfrm>
            <a:off x="1403280" y="1077840"/>
            <a:ext cx="6913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07T10:13:07Z</dcterms:modified>
  <cp:revision>32</cp:revision>
  <dc:subject/>
  <dc:title>ТВОРЧЕСКАЯ ДЕЯТЕЛЬНОСТЬ: ЗНАКОМСТВО С ТЕХНИКОЙ ИЗОНИТЬ</dc:title>
</cp:coreProperties>
</file>